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840A-08B9-400E-974B-249AEE65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252-E0E5-4369-BF1E-B63AEB93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4FC5-1E44-4802-ACA7-03102DF7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5AF-1E75-4F2F-9566-61681E89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A2C4-3604-438C-A65A-E8DFB1DD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B135-5D7B-4F11-8FCC-C90BC961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9D0-B3BC-4C7A-88F8-2F4F54F3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26B-CA6F-499E-926B-43638774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6803-6C2A-4017-BA54-8526F40A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CAA-99E0-45BC-BBED-BBF2FAB2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6CA-4611-4C7B-87A6-CBFB6A67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B55-0B10-4659-A941-733557D2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1643-C81F-43B9-B5D8-967DA81C0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chool-wires.wikispaces.com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 links to web pages with your students and their par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return to the wik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on “New P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6320" y="1976400"/>
            <a:ext cx="9220320" cy="4881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0080" y="3198960"/>
            <a:ext cx="98748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Link Librar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05120" y="5486400"/>
            <a:ext cx="144468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you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1143000" y="3884760"/>
            <a:ext cx="1214280" cy="1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lect your Library from the page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66680" y="52578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New Lin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76320" y="1976400"/>
            <a:ext cx="9220320" cy="4881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00080" y="3198960"/>
            <a:ext cx="914400" cy="3013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link, then click “Next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3962520"/>
            <a:ext cx="12952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4114800"/>
            <a:ext cx="533520" cy="3808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er a description, the web address, then click “Active” and “Sav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9172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5028840" y="2743200"/>
            <a:ext cx="1143000" cy="13716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590560" y="5029200"/>
            <a:ext cx="990360" cy="6858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5867280"/>
            <a:ext cx="685800" cy="38124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“Home” to return to your page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09680" y="2666880"/>
            <a:ext cx="304920" cy="3049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3:18:44Z</dcterms:created>
  <dc:creator>%$#@1</dc:creator>
  <dc:description/>
  <dc:language>en-US</dc:language>
  <cp:lastModifiedBy>%$#@1</cp:lastModifiedBy>
  <dcterms:modified xsi:type="dcterms:W3CDTF">2010-04-27T03:19:59Z</dcterms:modified>
  <cp:revision>2</cp:revision>
  <dc:subject/>
  <dc:title>Link Library</dc:title>
</cp:coreProperties>
</file>